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32228"/>
        <c:axId val="52399186"/>
      </c:barChart>
      <c:catAx>
        <c:axId val="51532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9186"/>
        <c:crosses val="autoZero"/>
        <c:auto val="1"/>
        <c:lblAlgn val="ctr"/>
        <c:lblOffset val="100"/>
        <c:noMultiLvlLbl val="0"/>
      </c:catAx>
      <c:valAx>
        <c:axId val="52399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32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E8C-89D5-4B53-BAEC-F38700D3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F3D-EDEA-40BE-9FA9-B487DA9D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BC1-8261-47BA-9064-6B17C62C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591-2BCB-448E-81A5-36889A28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88-269B-44C6-B0FB-F54D1886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D70-FFA1-4721-A1A7-50A628B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B1F-A453-445B-8BA5-FE80B665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548-2C95-4362-AEAD-2E0195AF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452-F7C1-470D-8C94-AE495E2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B8C3-53D3-43FA-BFE5-DAF27D7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604-6011-4EB2-97B0-4576CFE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996-E199-4C95-AB3B-09D69E0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28886-6C23-406F-A759-51B8907E2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