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01060"/>
        <c:axId val="68742281"/>
      </c:barChart>
      <c:catAx>
        <c:axId val="793010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42281"/>
        <c:crosses val="autoZero"/>
        <c:auto val="1"/>
        <c:lblAlgn val="ctr"/>
        <c:lblOffset val="100"/>
        <c:noMultiLvlLbl val="0"/>
      </c:catAx>
      <c:valAx>
        <c:axId val="68742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010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563-E65E-4544-BB64-36A7A605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E7E-6394-48B5-BFAF-B6CD7BC7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D93-3BB8-495D-B146-5196EB56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20E-36EA-4DC9-B3CE-4A01CFBE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EF7-C94A-41C7-8FF3-7DC6DF8F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7A7-9691-49D9-876A-82C8EE9E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D58-EDD6-4005-A172-EA34F47A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33D7-351D-418E-8D40-DCE1FBFF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B0A-B582-4F8B-A6E0-6F64D87B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1FC0-4E8C-4D1C-8065-22A240D0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4DF-248D-4A3E-BF45-AC34297D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978-74E1-494A-9D99-8EDB3B4D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C130A-1DD5-41CA-8A6C-AF59DE99C7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