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44396"/>
        <c:axId val="86828030"/>
      </c:barChart>
      <c:catAx>
        <c:axId val="56444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28030"/>
        <c:crosses val="autoZero"/>
        <c:auto val="1"/>
        <c:lblAlgn val="ctr"/>
        <c:lblOffset val="100"/>
        <c:noMultiLvlLbl val="0"/>
      </c:catAx>
      <c:valAx>
        <c:axId val="86828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44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D2F-A125-496E-8E43-E1C31084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266-3637-4A59-BB79-6C98CD26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CAB-33C9-48BD-B77D-E356EFC9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837-E1AC-4895-9E51-4DA15F2D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7A3-A1BE-4337-BFCB-B0F0D593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BE4-6F49-47DB-965B-F5A211AD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ED2-1549-48A6-A6CF-65E553BE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485-814B-430B-9775-202EFC91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5785-DE2F-4F66-813A-82524362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B1C2-58E5-4AE6-AC45-761CE98A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954-95C4-48F4-B217-1F694310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6443-D92F-467C-A83D-6EA713A7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587E4-6024-4C47-B8A2-6F7F8E2DC9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