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610054"/>
        <c:axId val="87983331"/>
      </c:barChart>
      <c:catAx>
        <c:axId val="456100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983331"/>
        <c:crosses val="autoZero"/>
        <c:auto val="1"/>
        <c:lblAlgn val="ctr"/>
        <c:lblOffset val="100"/>
        <c:noMultiLvlLbl val="0"/>
      </c:catAx>
      <c:valAx>
        <c:axId val="879833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6100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32BF-AF5D-4B29-9BC7-FE6996FA0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B9EA-226F-4D38-89EE-79F88A1E0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3884-1BCB-4B15-824E-D563D8CA7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7589-E114-4590-9F95-4C005C5B3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D506-9F62-4AEF-B17E-B2BB22F42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143E-9DE3-4913-9E7B-07552C32B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7CF6-0EC4-455D-9A9E-1089943FD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3037-2D8B-4AD4-898E-E8997A4BC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E284-8379-4E61-9E7F-FB1439BDE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3306-C146-4629-85AD-D03E4A7D8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A0AE-03CB-4EEB-B06D-6E6E140F6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01C9-A395-4BA5-B21D-EDA753A3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2FAC97-AE36-4BF2-AAD8-583CE33F06E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